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6.wmf" ContentType="image/x-wmf"/>
  <Override PartName="/ppt/media/chimes.wav" ContentType="audio/x-wav"/>
  <Override PartName="/ppt/media/image7.jpeg" ContentType="image/jpeg"/>
  <Override PartName="/ppt/media/image5.wmf" ContentType="image/x-wmf"/>
  <Override PartName="/ppt/media/applause.wav" ContentType="audio/x-wav"/>
  <Override PartName="/ppt/media/image10.png" ContentType="image/png"/>
  <Override PartName="/ppt/media/image9.png" ContentType="image/png"/>
  <Override PartName="/ppt/media/image8.wmf" ContentType="image/x-wmf"/>
  <Override PartName="/ppt/media/projctor.wav" ContentType="audio/x-wav"/>
  <Override PartName="/ppt/media/driveby.wav" ContentType="audio/x-wav"/>
  <Override PartName="/ppt/media/whoosh.wav" ContentType="audio/x-wav"/>
  <Override PartName="/ppt/media/camera.wav" ContentType="audio/x-wav"/>
  <Override PartName="/ppt/media/explode.wav" ContentType="audio/x-wav"/>
  <Override PartName="/ppt/media/image1.png" ContentType="image/png"/>
  <Override PartName="/ppt/media/carbrake.wav" ContentType="audio/x-wav"/>
  <Override PartName="/ppt/media/image2.jpeg" ContentType="image/jpeg"/>
  <Override PartName="/ppt/media/image3.wmf" ContentType="image/x-wmf"/>
  <Override PartName="/ppt/media/drumroll.wav" ContentType="audio/x-wav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889-4B2D-4A28-B129-D4F2FB1F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1FC-7126-43A9-98EB-D8038C26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27A-81AD-45C4-9F43-03B9426F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711A-DF7A-4E44-8340-CBFE1C21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9F64-0296-40C9-BB27-3A17CB06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17E6-FEB4-41C1-B621-57DD388F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C616-54AA-405E-BD7A-A262F71B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B97D-2F95-42CD-BCAE-E18FE44B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CF0B-BA5E-4295-A628-010751EB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8C79-5A90-4D5E-8216-0EE6A448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38AF-CE3D-4DCC-82E4-942E79A8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3F29-AC11-4161-A4C4-6107456C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758C-87C0-4EC2-AA1F-C3AD9A2C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836B-60E3-40E0-A4EF-4DEEE377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CEB2-5AA4-4C8C-BCB0-1D60191D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D31F-DB73-4C1B-B541-CA6236F6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1260-D8E1-4C3D-9481-8AE8B8DD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D9F-7A67-4F25-86F8-1C5F72FA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BFD7-646B-4100-9D06-096D40AC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7D7-14FB-4A90-A838-48EECA02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5A59-48BA-4E3E-BC50-B14E1EFE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B23F-3046-4A28-9BA0-954C6817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FF92-72DB-4978-982F-0179D418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7858-3353-4290-87EF-5D6BBA31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3600-3B9D-49CF-9947-877DB5982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4FC9-3AEF-4CCB-8777-3FC56F649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aculty.valenciacc.edu/ckimball/papers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explode.wav"/><Relationship Id="rId3" Type="http://schemas.openxmlformats.org/officeDocument/2006/relationships/audio" Target="../media/carbrak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explode.wav" TargetMode="External"/><Relationship Id="rId2" Type="http://schemas.microsoft.com/office/2007/relationships/media" Target="file:///tmp/home/.config/libreoffice/4/user/gallery/explode.wav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troduction to PowerPoi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I’m done teaching PowerPoint, you should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2619360"/>
            <a:ext cx="735660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PowerPoint presentation by Charles Kim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view more like it, visit the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Technology For Educators HQ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657600" y="533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he PowerPoint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e and close a pres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an existing pres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help from the Office Assi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267080" y="2346480"/>
            <a:ext cx="44960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reate a Tit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bulleted 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ey, that’s what this is, isn’t it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one or more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from one view to another (that’s what these controls are for!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22120" y="436320"/>
            <a:ext cx="7508520" cy="1031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n Autoshape with text to a slide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951440" y="1828800"/>
            <a:ext cx="3735360" cy="3962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H="1">
            <a:off x="1523520" y="4114800"/>
            <a:ext cx="213372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reate a chart . . 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2120" y="1752480"/>
          <a:ext cx="80010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8001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And turn it into another type of chart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69920" y="1760400"/>
          <a:ext cx="7589880" cy="444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1760400"/>
                    <a:ext cx="7589880" cy="44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Insert clip 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pply a templ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Change the colors of your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dd some no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Run a slide sh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951440" y="1805040"/>
            <a:ext cx="3735360" cy="400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or extra credit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transition or build 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sound 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828800" y="2666880"/>
            <a:ext cx="64771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nsert WordAr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at’s All Folks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63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6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14:25:42Z</dcterms:created>
  <dc:creator>Charles Kimball</dc:creator>
  <dc:description/>
  <dc:language>en-US</dc:language>
  <cp:lastModifiedBy>Charles Kimball</cp:lastModifiedBy>
  <dcterms:modified xsi:type="dcterms:W3CDTF">2004-10-15T00:55:47Z</dcterms:modified>
  <cp:revision>9</cp:revision>
  <dc:subject/>
  <dc:title>Introduction to PowerPoint</dc:title>
</cp:coreProperties>
</file>