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28C5-83CA-431C-B171-3A95B335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920D-919F-4008-AE8F-E75C0B46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4D2-1150-465B-98BA-05E9DE1E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54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096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254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02C-D4FC-4B33-973C-BA6D518F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BA14-6FF7-4777-B42D-EFC23DB8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D6FD-19D0-4642-ADA3-4287A6EB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B6A8-5C74-435D-860D-416D409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F6D4-511C-40C8-A3DA-C0A8AC47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E1A9-6F5E-42DF-8C8F-EFDF197C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6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2CDB-097D-4829-929B-939B369A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CC03-1CFF-4837-82AD-D556991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1AA-A4E3-49EE-8F5A-60720BEF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49DB-1D70-4F18-AA64-C4A07B7C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F377-EEC2-4AC3-9755-7622753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A4C-DA2A-4C36-A2A0-FA22D1F2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12CA-5F6D-45F5-9C6F-633DDC5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254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096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4254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10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59EF-B9F8-498F-B49C-5DAE61FF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D66-5F01-405A-BB86-58418A1B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845-DE71-4553-94DF-5BA942B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8DF-C4CA-4B66-8EC2-BFE56EEF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6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298-070F-4D30-9B7A-83E5A25C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6CD-E0EA-453A-933C-B727A51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67760" y="413064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16AE-89CE-4D65-B530-04F03444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67760" y="1981080"/>
            <a:ext cx="319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09680" y="4130640"/>
            <a:ext cx="6553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1E1-FBD9-428B-B396-C3A9FE49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628640" cy="431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Click to edit the title text forma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901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901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B12A-5AE9-478E-8479-6E94C797101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628640" cy="4314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5640" y="109980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Click to edit the title text forma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3E86-A616-4DB2-9FE2-299800B5EA3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hesanhedrin.org/en/index.php/The_Re-established_Jewish_Sanhedrin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mpleinstitute.org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mplemountfaithful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dsholymountain.org/English/index.aspx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arunyahya.com/" TargetMode="External"/><Relationship Id="rId2" Type="http://schemas.openxmlformats.org/officeDocument/2006/relationships/hyperlink" Target="http://www.harunyahya.com/" TargetMode="External"/><Relationship Id="rId3" Type="http://schemas.openxmlformats.org/officeDocument/2006/relationships/hyperlink" Target="http://www.harunyahya.com/" TargetMode="External"/><Relationship Id="rId4" Type="http://schemas.openxmlformats.org/officeDocument/2006/relationships/hyperlink" Target="http://www.harunyahya.com/" TargetMode="External"/><Relationship Id="rId5" Type="http://schemas.openxmlformats.org/officeDocument/2006/relationships/hyperlink" Target="http://www.harunyahya.com/" TargetMode="External"/><Relationship Id="rId6" Type="http://schemas.openxmlformats.org/officeDocument/2006/relationships/hyperlink" Target="http://www.harunyahya.com/" TargetMode="External"/><Relationship Id="rId7" Type="http://schemas.openxmlformats.org/officeDocument/2006/relationships/hyperlink" Target="http://www.harunyahya.com/" TargetMode="External"/><Relationship Id="rId8" Type="http://schemas.openxmlformats.org/officeDocument/2006/relationships/hyperlink" Target="http://www.harunyahya.com/" TargetMode="Externa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663300"/>
                </a:solidFill>
                <a:uFillTx/>
                <a:latin typeface="Arial"/>
              </a:rPr>
              <a:t>The Temple Mount</a:t>
            </a: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ar Habay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 Haram Al Shari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1800" y="3124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heSanhedrin.org</a:t>
            </a:r>
            <a:endParaRPr b="1" lang="en-US" sz="48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f the authorities would give permission to build the Temple, we are obligated to build it; as it is explained in the Midrash that during the days of Rabbi Yehoshua ben Chaninah permission was granted, and they began to build it."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228600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empleInstitute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655344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Templemountfaithful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09680" y="1855800"/>
            <a:ext cx="655344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663300"/>
                </a:solidFill>
                <a:uFillTx/>
                <a:latin typeface="Arial"/>
              </a:rPr>
              <a:t>What is still needed to build the Temple?</a:t>
            </a:r>
            <a:endParaRPr b="1" lang="en-US" sz="48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rston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09680" y="533160"/>
            <a:ext cx="6553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a red heifer (Numbers 19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609588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680" y="762120"/>
            <a:ext cx="65534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of all, there needs to be agreement between Jews, Christians and Moslems, in order to build the Temple without starting a w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re such an ecumenical movement to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so, we are close to seeing it happ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What makes the Temple Mount special?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bout half the human race, it is the holiest place in the world, and the center of God’s activ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raham offered Isaac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Jewish Temples were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lems believe Mohammed visited he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In 1967, Israel captured the Temple Mount.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 few days later, Moshe Dayan gave it back to the Moslem religious authority, the Waq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54864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Since the 1990s, the Palestinians have restricted who can go on the Temple Mount.</a:t>
            </a:r>
            <a:endParaRPr b="1" lang="en-US" sz="32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09680" y="19807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had no trouble visiting the Dome of the Rock and the Al Aqsa Mosque in 197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hen Ariel Sharon went there in 2000, he did not enter either mosque, but it became the excuse to launch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ifad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cent years, the Palestinians have dug all the way to the bedrock, built at least two new mosques, and thrown away dirt containing artifacts from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m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The Bible speaks of an “Abomination of Desolation” happening in the Temple.</a:t>
            </a:r>
            <a:endParaRPr b="1" lang="en-US" sz="32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680" y="2437920"/>
            <a:ext cx="6553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ppened in 167 B.C., when Antiochus Epiphanes put an idol of Zeus in the Temple and sacrificed a pig on the alt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t happening today, as long as there are mosques on the s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the Antichrist do it again, in the middle of the Tribulation?  If so, does the Temple need to be rebuilt before the Tribulation begi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990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abbi Shlomo Goren (1917-94) wrote that five things must happen before the Messiah comes:</a:t>
            </a:r>
            <a:endParaRPr b="1" lang="en-US" sz="2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33720" y="228564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oration of the state of Isra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stablishment of a Jewish govern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gathering of enough Jews from the Diaspora to create a Jewish majority in the la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oration of the Sanhedr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building of the Te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nother rabbi, Shlomo Chaim Hacohen Aviner, explained in 1999 why the Temple Mount is so important:</a:t>
            </a:r>
            <a:endParaRPr b="1" lang="en-US" sz="24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ll a matter of sovereignty. He who controls the Temple Mount, controls Jerusalem. And he who controls Jerusalem, controls the land of Israel.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wants to rebuild the Temple t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Godsholymountain.org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362320" y="1797120"/>
            <a:ext cx="5991120" cy="4298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1"/>
              </a:rPr>
              <a:t>Adnan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2"/>
              </a:rPr>
              <a:t>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3"/>
              </a:rPr>
              <a:t>Oktar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4"/>
              </a:rPr>
              <a:t>, also called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5"/>
              </a:rPr>
              <a:t>Harun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6"/>
              </a:rPr>
              <a:t> 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7"/>
              </a:rPr>
              <a:t>Yahya</a:t>
            </a:r>
            <a:r>
              <a:rPr b="1" lang="en-US" sz="4000" spc="-1" strike="noStrike" u="sng">
                <a:solidFill>
                  <a:srgbClr val="ff99cc"/>
                </a:solidFill>
                <a:uFillTx/>
                <a:latin typeface="Arial"/>
                <a:hlinkClick r:id="rId8"/>
              </a:rPr>
              <a:t>.</a:t>
            </a:r>
            <a:endParaRPr b="1" lang="en-US" sz="4000" spc="-1" strike="noStrike" u="sng">
              <a:solidFill>
                <a:srgbClr val="663300"/>
              </a:solidFill>
              <a:uFillTx/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3809880" y="1981080"/>
            <a:ext cx="317664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05:32:53Z</dcterms:created>
  <dc:creator>Charles Kimball</dc:creator>
  <dc:description>For more PowerPoint based Sunday School and Sermon material visit www.eBibleTeacher.com</dc:description>
  <cp:keywords>scroll old testament bible</cp:keywords>
  <dc:language>en-US</dc:language>
  <cp:lastModifiedBy>Charles Kimball</cp:lastModifiedBy>
  <dcterms:modified xsi:type="dcterms:W3CDTF">2011-02-18T19:39:20Z</dcterms:modified>
  <cp:revision>6</cp:revision>
  <dc:subject>template</dc:subject>
  <dc:title>Rabbi Shlomo Goren (1917-94) wrote that five things must happen before the Messiah comes:</dc:title>
</cp:coreProperties>
</file>