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0E97-1BB8-4132-9EDC-0D04B64B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 B. 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developed civilization can only be found in the lower parts of river valleys:  The Nile, Tigris, Euphrates, and Indu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B.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ers of civilization are close enough together that some commerce takes place between them.  Civilization spreads up the rivers, and into the nearest corner of Iran (Elam).  It also gets started in China and on Cret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B.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rtile Crescent is completely civilized.  Civilization now appears in Turkey, Greece, and isolated spots of the New World (Mexico and Peru).</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vilization expands at a much greater rate, now that civilized men outnumber the barbarians.  The entire Mediterranean basin is engulfed, as well as Nubia, Yemen, Iran, Afghanistan and most of India; the result is a civilized area stretching from France to Bangladesh.  In the Far East, Chinese civilization spills into Korea and Vietnam.</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ation spreads from the area encompassed by the Roman Empire into German, Slav, Viking and Magyar-ruled areas; often missionaries lead the way.  Islam crosses the  Sahara desert to establish footholds in West Africa, while Christian kings rule Ethiopia.  Japan adopts the Chinese way of life, and the Indian and Chinese civilizations meet in Southeast Asia and Tibet.  In the New World, the Mexican and Peruvian civilizations begin to expand beyond their core territori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bout every remaining piece of land in the world is conquered, settled and civilized.  Also important is that most of this is done by one civilization (Western European), so the world has become a place with one dominant cultur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AB634-893C-4AD7-85D2-332658562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4A27-9F6F-47C8-9475-469DD483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BAC27-46A7-4911-AF5E-56E08E846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BFC5-95C4-4DF3-B7D2-635D1C3D6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220E-4485-47F7-BF49-85D1FE18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03EFB-6B31-4D85-8C44-826D5ECD4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F19C7-6674-4424-B3E5-E19361B9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2865C-9582-4D3F-902E-01F58754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AD41-B8F9-45E4-8D35-3894AAD7C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3317-6EA6-4F8F-9D3E-098449F9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3F2A-9D0A-45A2-8A97-1F588442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3622-4DAD-480F-AECE-49CF2D930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DB48-2C44-4E77-A57F-45B4DB58E1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xenohistorian.faithweb.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pread of Civilization</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000-year Steps</a:t>
            </a:r>
            <a:endParaRPr b="0" lang="en-US" sz="32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ver the past 5,000+ years, the civilized portion of the world has grown very slowly.</a:t>
            </a:r>
            <a:endParaRPr b="0" lang="en-US" sz="3600" spc="-1" strike="noStrike">
              <a:solidFill>
                <a:srgbClr val="ffff00"/>
              </a:solidFill>
              <a:latin typeface="Times New Roman"/>
            </a:endParaRPr>
          </a:p>
        </p:txBody>
      </p:sp>
      <p:sp>
        <p:nvSpPr>
          <p:cNvPr id="51"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e thousand year intervals are the shortest observable steps.</a:t>
            </a:r>
            <a:endParaRPr b="0" lang="en-US" sz="36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3000 B.C.</a:t>
            </a:r>
            <a:endParaRPr b="0" lang="en-US" sz="4400" spc="-1" strike="noStrike">
              <a:solidFill>
                <a:srgbClr val="ffff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000 B.C.</a:t>
            </a:r>
            <a:endParaRPr b="0" lang="en-US" sz="4400" spc="-1" strike="noStrike">
              <a:solidFill>
                <a:srgbClr val="ffff00"/>
              </a:solidFill>
              <a:latin typeface="Times New Roman"/>
            </a:endParaRPr>
          </a:p>
        </p:txBody>
      </p:sp>
      <p:graphicFrame>
        <p:nvGraphicFramePr>
          <p:cNvPr id="56" name=""/>
          <p:cNvGraphicFramePr/>
          <p:nvPr/>
        </p:nvGraphicFramePr>
        <p:xfrm>
          <a:off x="0" y="0"/>
          <a:ext cx="9144000" cy="6858000"/>
        </p:xfrm>
        <a:graphic>
          <a:graphicData uri="http://schemas.openxmlformats.org/presentationml/2006/ole">
            <p:oleObj r:id="rId1" spid="">
              <p:embed/>
              <p:pic>
                <p:nvPicPr>
                  <p:cNvPr id="57"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 B.C.</a:t>
            </a:r>
            <a:endParaRPr b="0" lang="en-US" sz="4400" spc="-1" strike="noStrike">
              <a:solidFill>
                <a:srgbClr val="ffff00"/>
              </a:solidFill>
              <a:latin typeface="Times New Roman"/>
            </a:endParaRPr>
          </a:p>
        </p:txBody>
      </p:sp>
      <p:graphicFrame>
        <p:nvGraphicFramePr>
          <p:cNvPr id="59" name=""/>
          <p:cNvGraphicFramePr/>
          <p:nvPr/>
        </p:nvGraphicFramePr>
        <p:xfrm>
          <a:off x="0" y="0"/>
          <a:ext cx="9144000" cy="6858000"/>
        </p:xfrm>
        <a:graphic>
          <a:graphicData uri="http://schemas.openxmlformats.org/presentationml/2006/ole">
            <p:oleObj r:id="rId1" spid="">
              <p:embed/>
              <p:pic>
                <p:nvPicPr>
                  <p:cNvPr id="60"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 A.D.</a:t>
            </a:r>
            <a:endParaRPr b="0" lang="en-US" sz="4400" spc="-1" strike="noStrike">
              <a:solidFill>
                <a:srgbClr val="ffff00"/>
              </a:solidFill>
              <a:latin typeface="Times New Roman"/>
            </a:endParaRPr>
          </a:p>
        </p:txBody>
      </p:sp>
      <p:graphicFrame>
        <p:nvGraphicFramePr>
          <p:cNvPr id="62" name=""/>
          <p:cNvGraphicFramePr/>
          <p:nvPr/>
        </p:nvGraphicFramePr>
        <p:xfrm>
          <a:off x="0" y="0"/>
          <a:ext cx="9144000" cy="6858000"/>
        </p:xfrm>
        <a:graphic>
          <a:graphicData uri="http://schemas.openxmlformats.org/presentationml/2006/ole">
            <p:oleObj r:id="rId1" spid="">
              <p:embed/>
              <p:pic>
                <p:nvPicPr>
                  <p:cNvPr id="63"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 A.D.</a:t>
            </a:r>
            <a:endParaRPr b="0" lang="en-US" sz="4400" spc="-1" strike="noStrike">
              <a:solidFill>
                <a:srgbClr val="ffff00"/>
              </a:solidFill>
              <a:latin typeface="Times New Roman"/>
            </a:endParaRPr>
          </a:p>
        </p:txBody>
      </p:sp>
      <p:graphicFrame>
        <p:nvGraphicFramePr>
          <p:cNvPr id="65" name=""/>
          <p:cNvGraphicFramePr/>
          <p:nvPr/>
        </p:nvGraphicFramePr>
        <p:xfrm>
          <a:off x="0" y="0"/>
          <a:ext cx="9144000" cy="6858000"/>
        </p:xfrm>
        <a:graphic>
          <a:graphicData uri="http://schemas.openxmlformats.org/presentationml/2006/ole">
            <p:oleObj r:id="rId1" spid="">
              <p:embed/>
              <p:pic>
                <p:nvPicPr>
                  <p:cNvPr id="66"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000 A.D.</a:t>
            </a:r>
            <a:endParaRPr b="0" lang="en-US" sz="4400" spc="-1" strike="noStrike">
              <a:solidFill>
                <a:srgbClr val="ffff00"/>
              </a:solidFill>
              <a:latin typeface="Times New Roman"/>
            </a:endParaRPr>
          </a:p>
        </p:txBody>
      </p:sp>
      <p:graphicFrame>
        <p:nvGraphicFramePr>
          <p:cNvPr id="68" name=""/>
          <p:cNvGraphicFramePr/>
          <p:nvPr/>
        </p:nvGraphicFramePr>
        <p:xfrm>
          <a:off x="0" y="0"/>
          <a:ext cx="9144000" cy="6858000"/>
        </p:xfrm>
        <a:graphic>
          <a:graphicData uri="http://schemas.openxmlformats.org/presentationml/2006/ole">
            <p:oleObj r:id="rId1" spid="">
              <p:embed/>
              <p:pic>
                <p:nvPicPr>
                  <p:cNvPr id="69"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Xeno"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To learn more, visit</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4876560"/>
            <a:ext cx="7772400" cy="198108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2"/>
              </a:rPr>
              <a:t>http://xenohistorian.faithweb.com/</a:t>
            </a:r>
            <a:endParaRPr b="0" lang="en-US" sz="28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3T14:39:12Z</dcterms:created>
  <dc:creator>Charles Kimball</dc:creator>
  <dc:description/>
  <dc:language>en-US</dc:language>
  <cp:lastModifiedBy>Charles Kimball</cp:lastModifiedBy>
  <dcterms:modified xsi:type="dcterms:W3CDTF">2001-03-31T18:02:39Z</dcterms:modified>
  <cp:revision>28</cp:revision>
  <dc:subject/>
  <dc:title>The Spread of Civilization</dc:title>
</cp:coreProperties>
</file>