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FLUSH.WAV" ContentType="audio/x-wav"/>
  <Override PartName="/ppt/media/image4.png" ContentType="image/png"/>
  <Override PartName="/ppt/media/laser.wav" ContentType="audio/x-wav"/>
  <Override PartName="/ppt/media/FIREBALL.WAV" ContentType="audio/x-wav"/>
  <Override PartName="/ppt/media/BUTTHEAD.WAV" ContentType="audio/x-wav"/>
  <Override PartName="/ppt/media/chimes.wav" ContentType="audio/x-wav"/>
  <Override PartName="/ppt/media/image3.png" ContentType="image/png"/>
  <Override PartName="/ppt/media/drumroll.wav" ContentType="audio/x-wav"/>
  <Override PartName="/ppt/media/image9.png" ContentType="image/png"/>
  <Override PartName="/ppt/media/image8.gif" ContentType="image/gif"/>
  <Override PartName="/ppt/media/NONONO8.WAV" ContentType="audio/x-wav"/>
  <Override PartName="/ppt/media/image7.wmf" ContentType="image/x-wmf"/>
  <Override PartName="/ppt/media/carbrake.wav" ContentType="audio/x-wav"/>
  <Override PartName="/ppt/media/applause.wav" ContentType="audio/x-wav"/>
  <Override PartName="/ppt/media/image5.wmf" ContentType="image/x-wmf"/>
  <Override PartName="/ppt/media/MSSOUND.WAV" ContentType="audio/x-wav"/>
  <Override PartName="/ppt/media/image6.png" ContentType="image/png"/>
  <Override PartName="/ppt/media/LLAMA.wav" ContentType="audio/x-wav"/>
  <Override PartName="/ppt/media/whoosh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72C-8080-4F02-B5C0-15CADAAF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F08-46E2-4F65-A232-BD755A2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B1B-1376-4116-9CC8-85DC5336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479-4687-415D-A75B-8C67FBDE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E46-449F-4F26-9D42-FA591A7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86B1-A994-4529-AA56-5C7746F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65EB-FEB3-4A96-909D-5D4C4895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2B1D-6CBB-4D2F-802B-C1FAB638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832-06F2-45BF-9783-AD72DD0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4A83-5AE9-4AF7-86E1-3EB5710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DD69-241F-460C-93DB-357222E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7E-1D94-4502-A406-DC17304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09D3-C0DB-4953-9CE4-0F565E0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194-B007-4496-8A3B-DA88613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56E-9CB2-4424-9CB3-3E4BCE0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4DF0-6135-4730-926E-B5BE0AE3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EA9-0123-4B20-B3E8-30224207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297-8DAD-44FA-826F-174D0FF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2E3-45FA-4EEA-8B96-6E70C3B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003-930D-4ECE-B7CD-95B953D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5B3-AAA1-42BF-9E55-129B116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DA5-8AAF-45EF-8813-A38D926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C80-0A3F-43DE-8917-57BF7E4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CAB-076D-4850-9016-E4CB941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5E5-1DD4-43A5-905D-DA65D72A46C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3AEA-80DE-4AAA-94CD-3341F291DDF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edbit.com/DAP7/DefaultT.asp?" TargetMode="External"/><Relationship Id="rId2" Type="http://schemas.openxmlformats.org/officeDocument/2006/relationships/hyperlink" Target="http://www.stardownloader.com/" TargetMode="External"/><Relationship Id="rId3" Type="http://schemas.openxmlformats.org/officeDocument/2006/relationships/hyperlink" Target="http://www.winzip.com/" TargetMode="External"/><Relationship Id="rId4" Type="http://schemas.openxmlformats.org/officeDocument/2006/relationships/hyperlink" Target="http://www.filzip.com/" TargetMode="External"/><Relationship Id="rId5" Type="http://schemas.openxmlformats.org/officeDocument/2006/relationships/hyperlink" Target="http://zipcentral.iscool.net/" TargetMode="External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isoft.com/" TargetMode="External"/><Relationship Id="rId2" Type="http://schemas.openxmlformats.org/officeDocument/2006/relationships/hyperlink" Target="http://www.zonelabs.com/store/content/company/zap_za_grid.jsp" TargetMode="External"/><Relationship Id="rId3" Type="http://schemas.openxmlformats.org/officeDocument/2006/relationships/hyperlink" Target="http://www.lavasoft.de/english/default.shtml" TargetMode="External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BUTTHEAD.WAV"/><Relationship Id="rId3" Type="http://schemas.openxmlformats.org/officeDocument/2006/relationships/audio" Target="../media/NONONO8.WAV"/><Relationship Id="rId4" Type="http://schemas.openxmlformats.org/officeDocument/2006/relationships/audio" Target="../media/NONONO8.WAV"/><Relationship Id="rId5" Type="http://schemas.openxmlformats.org/officeDocument/2006/relationships/audio" Target="../media/NONONO8.WAV"/><Relationship Id="rId6" Type="http://schemas.openxmlformats.org/officeDocument/2006/relationships/audio" Target="../media/NONONO8.WAV"/><Relationship Id="rId7" Type="http://schemas.openxmlformats.org/officeDocument/2006/relationships/audio" Target="../media/NONONO8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windowsmedia/download/default.asp" TargetMode="External"/><Relationship Id="rId2" Type="http://schemas.openxmlformats.org/officeDocument/2006/relationships/audio" Target="../media/MSSOUND.WAV"/><Relationship Id="rId3" Type="http://schemas.openxmlformats.org/officeDocument/2006/relationships/audio" Target="../media/LLAM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eal.com/player/" TargetMode="External"/><Relationship Id="rId2" Type="http://schemas.openxmlformats.org/officeDocument/2006/relationships/hyperlink" Target="http://www.apple.com/quicktime/products/qt/" TargetMode="External"/><Relationship Id="rId3" Type="http://schemas.openxmlformats.org/officeDocument/2006/relationships/hyperlink" Target="http://www.macromedia.com/shockwave/download/download.cgi?P1_Prod_Version=ShockwaveFlash" TargetMode="External"/><Relationship Id="rId4" Type="http://schemas.openxmlformats.org/officeDocument/2006/relationships/image" Target="../media/image1.wmf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q.com/download/" TargetMode="External"/><Relationship Id="rId2" Type="http://schemas.openxmlformats.org/officeDocument/2006/relationships/hyperlink" Target="http://www.aim.com/" TargetMode="External"/><Relationship Id="rId3" Type="http://schemas.openxmlformats.org/officeDocument/2006/relationships/hyperlink" Target="http://messenger.msn.com/" TargetMode="External"/><Relationship Id="rId4" Type="http://schemas.openxmlformats.org/officeDocument/2006/relationships/hyperlink" Target="http://www.odigo.org/" TargetMode="External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obe.com/products/acrobat/readstep2.html" TargetMode="External"/><Relationship Id="rId2" Type="http://schemas.openxmlformats.org/officeDocument/2006/relationships/hyperlink" Target="http://www.adobe.com/products/acrobat/readstep2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ilwasher.net/" TargetMode="External"/><Relationship Id="rId2" Type="http://schemas.openxmlformats.org/officeDocument/2006/relationships/hyperlink" Target="http://www.mailwasher.net/" TargetMode="External"/><Relationship Id="rId3" Type="http://schemas.openxmlformats.org/officeDocument/2006/relationships/image" Target="../media/image5.wmf"/><Relationship Id="rId4" Type="http://schemas.openxmlformats.org/officeDocument/2006/relationships/audio" Target="../media/FLU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FIREBA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y Favorite Download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2880" y="3886200"/>
            <a:ext cx="625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 Must-have Programs for the Web Surf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066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Tools You’ll 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downloading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D.A.P. (Download Accelerator Plus)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tar Downloa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-mail attachmen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Winz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FilZ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Zip Cent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  <p:animClr clrSpc="rgb">
                                <p:cBhvr>
                                  <p:cTn id="165" dur="1" fill="hold"/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Very Useful Ut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AVG Anti-Vi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Zone Ala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-DeadLin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AdA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ybot - Search &amp; Destr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 the other hand, I would avoid these . .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nzi Budd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et Curs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!Zil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tb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51200" y="1658880"/>
            <a:ext cx="4030920" cy="437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HE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Happy Websurfing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471760" y="2181240"/>
            <a:ext cx="403704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2546280"/>
            <a:ext cx="794196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view more like it, visit the Technology For Educators HQ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P3 Players</a:t>
            </a:r>
            <a:br>
              <a:rPr sz="4400"/>
            </a:b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(pick any on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indows Media Play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ous oth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More Entertainment Fu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Real Play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Quick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Macromedia Fl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7446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ant Messengers</a:t>
            </a:r>
            <a:br>
              <a:rPr sz="4400"/>
            </a:b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(pick any on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ICQ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AOL Instant Messenger (AIM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MSN Messen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Odig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ous oth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7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dictionary and an almanac are just a mouse-click away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5028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Formerly called Atomica and Gurune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3133800"/>
            <a:ext cx="7925040" cy="1174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per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765080"/>
            <a:ext cx="7743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ickly find anything on the Internet or your computer with search engines that run on your hard driv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73520" y="3597120"/>
            <a:ext cx="3438360" cy="119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Adobe Acrobat Rea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cause many documents are now written in Adobe Acrob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3505320"/>
            <a:ext cx="7734240" cy="11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MailWas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est tool I’ve found for fighting spam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51200" y="1909800"/>
            <a:ext cx="4030920" cy="387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zilla Firef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200" y="1976400"/>
            <a:ext cx="784548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browser that is faster than Internet Explorer, safer to use, and gives you fewer popup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5089680" cy="258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IREB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3:37:09Z</dcterms:created>
  <dc:creator>Charles Kimball</dc:creator>
  <dc:description/>
  <dc:language>en-US</dc:language>
  <cp:lastModifiedBy>Charles Kimball</cp:lastModifiedBy>
  <dcterms:modified xsi:type="dcterms:W3CDTF">2006-01-29T13:55:05Z</dcterms:modified>
  <cp:revision>73</cp:revision>
  <dc:subject/>
  <dc:title>My Favorite Downloads</dc:title>
</cp:coreProperties>
</file>