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suction.wav" ContentType="audio/x-wav"/>
  <Override PartName="/ppt/media/image2.png" ContentType="image/png"/>
  <Override PartName="/ppt/media/applause.wav" ContentType="audio/x-wav"/>
  <Override PartName="/ppt/media/GOTMAIL.WAV" ContentType="audio/x-wav"/>
  <Override PartName="/ppt/media/Yeargh.wav" ContentType="audio/x-wav"/>
  <Override PartName="/ppt/media/explode.wav" ContentType="audio/x-wav"/>
  <Override PartName="/ppt/media/push.wav" ContentType="audio/x-wav"/>
  <Override PartName="/ppt/media/RimShot.wav" ContentType="audio/x-wav"/>
  <Override PartName="/ppt/media/GOTSPAM.WAV" ContentType="audio/x-wav"/>
  <Override PartName="/ppt/media/DAFACTS.WAV" ContentType="audio/x-wav"/>
  <Override PartName="/ppt/media/SHIPBUMP.WAV" ContentType="audio/x-wav"/>
  <Override PartName="/ppt/media/image1.png" ContentType="image/png"/>
  <Override PartName="/ppt/media/whoosh.wav" ContentType="audio/x-wav"/>
  <Override PartName="/ppt/media/image5.png" ContentType="image/png"/>
  <Override PartName="/ppt/media/image3.png" ContentType="image/png"/>
  <Override PartName="/ppt/media/image4.png" ContentType="image/png"/>
  <Override PartName="/ppt/media/BARF.WAV" ContentType="audio/x-wav"/>
  <Override PartName="/ppt/media/coin.wav" ContentType="audio/x-wav"/>
  <Override PartName="/ppt/media/bomb.wav" ContentType="audio/x-wav"/>
  <Override PartName="/ppt/media/candotha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DFEB-1096-4899-ACC4-5A65708C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A8DA-00D2-4DD1-88DB-64AC1C2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4A1A-8042-41F8-9A9D-6A5745F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BA2D-9849-4E56-8EE1-C228A1A5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4E20-D9DE-4947-A9D0-E076043A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690D-2938-4D13-AA4A-B3A2717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2755-2711-438C-B42E-3A867CD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C1E2-7E23-4369-82B2-75127654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B2DC-B303-4937-9DB2-DB07A312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D94-C6B8-43CC-A013-27A5524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71EB-8C0C-4C44-91BE-0CB3444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BC32-BFD9-4013-9E4A-77ED687C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218-8464-4702-B06B-1213055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6F37-ABBC-4722-9ED8-4DC609C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6543-6C9A-4EA3-A9F0-26AEB40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52F-D9E1-4360-9B33-66B819B0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5A6B-31F6-4103-AA2D-5DC3A992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D75-B244-4403-A84C-C640FC8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E95F-16ED-4D98-AFB1-31DE3D0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91C2-D007-47F5-9855-92FED1B7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7FD3-6732-423D-927E-0FDACB45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5025-5410-4BEB-A0DA-14F9314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8CE5-F273-4414-8875-A6B3416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FB96-1AEA-4560-B88E-56C783A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BDC1-415E-4D0F-BAEB-AAC7A90FF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23B9-35E8-4119-8AD7-8BCBC37C4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ARF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GOTSPAM.WAV"/><Relationship Id="rId4" Type="http://schemas.openxmlformats.org/officeDocument/2006/relationships/audio" Target="../media/SHIPBUMP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ndothat.wav"/><Relationship Id="rId3" Type="http://schemas.openxmlformats.org/officeDocument/2006/relationships/audio" Target="../media/Yeargh.wav"/><Relationship Id="rId4" Type="http://schemas.openxmlformats.org/officeDocument/2006/relationships/audio" Target="../media/DAFACTS.WAV"/><Relationship Id="rId5" Type="http://schemas.openxmlformats.org/officeDocument/2006/relationships/audio" Target="../media/RimShot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RimShot.wav"/><Relationship Id="rId4" Type="http://schemas.openxmlformats.org/officeDocument/2006/relationships/audio" Target="../media/RimShot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faculty.valenciacc.edu/ckimball/papers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GOTMAI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ternet Mileston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y Charles Kimball, EME204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graduate students at Duke University, Jim Ellis &amp; Tom Truscott, create USENET, the oldest bulletin board system still in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8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cience Foundation establishes NSFNET, a network for schools, government offices, military bases and research laboratories.  Top speed is 56Kb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8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ow Compuserve has 500,000 users.  Together with MCI, it launches the first commercial e-mail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Berners-Lee, a scientist at the European Laboratory for Particle Physics (CERN) in Switzerland, creates and launches the World Wide We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Online opens its private e-mail service to the Internet.  Within a few years AOL becomes the largest Internet service provider (ISP), and even buys the one it replaced, Compus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dreessen invents Mosaic, the first browser that can view graph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ilo and Jerry Yang, two graduate students at Stanford, create Yahoo!, the first search eng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dreessen creates Netscape, the oldest browser still in use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so 199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unsolicited commercial ad (spam) appears in Usenet newsgroups -- an ad for immigration services from the legal firm Canter &amp; Siegel.  By the end of the decade, spammers ruin Usenet as a useful communications platform, by stuffing the groups with countless unwanted adverti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is born with the launching of Amazon.com and eBay.  Today they are the most successful companie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launches Internet Explorer.  Two years later it replaces Netscape as the most popular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8-199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years for the high-tech industry.  Stock in those companies is ridiculously overpri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is launched in 1998.  A year later it becomes the most popular search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compete to build the most popular portal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hopping becomes big business.  Toys-R-Us gets so many Christmas orders for 1999 that it can’t deliver them o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ly 194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nevar Bush, the director of the Office of Scientific Research &amp; Development, writes an articl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tlantic Month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a system of interconnected information access (“As We May Think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eaded Y2K bug fails to destroy computers and civi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 Justice Department’s anti-trust suit against Microsoft causes the whole high-tech industry to go b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dot-coms advertise at the Superbowl.  A year later, only 7 of them are still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L buys Time-Warner in one of the largest corporate mergers ever.  Over the next year, however, the new mega-corporation loses nearly $100 b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“blogs” (weblogs, online diari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m now makes up more than 50% of all e-mail (Boo!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Explorer peaks, with 96% of all people on the Internet using it.  Afterwards it suffers from various problems, especially hackers and viruses, caused by old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TSP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004 presidential election is dramatically affected by the “New Media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ard Dean raises most of his money on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online journals like The Drudge Report and Newsm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s like Moveon.org, and forums like FreeRepublic.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s like Instapun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doth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r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FAC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yware and “phishing” become greater threats to users than viruses and sp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.com is now the most popular page on the Internet, allowing Google to compete with Microsoft and A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555640"/>
            <a:ext cx="794556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view more like it, visit the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Technology For Educators HQ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5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government establishes the Advanced Research Projects Agency (ARPA) to promote advances in science and technology.  This is in response to the Soviet Union’s 1957 launch of Sputnik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2, 196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s are made at ARPA to build a computer network, for defensive purposes, but not until 1967 does ARPA agree to d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ANet is launched, with four nodes (connection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California at Santa Barb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Ut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64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serve is founded as a time-sharing system, allowing various people to use an insurance company’s mainfram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79 CompuServe began offering technical support, e-mail, and electronic discussion groups to personal computer users with a mod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y Tomlinson invents the first two e-mail programs for ARPAN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DM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TMA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ANet gets its first international conn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College of Lon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wegian Royal Radar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nce Cerf invents TCP/IP, the system for transmitting data across the Internet that is still used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8:28:34Z</dcterms:created>
  <dc:creator>Charles Kimball</dc:creator>
  <dc:description/>
  <dc:language>en-US</dc:language>
  <cp:lastModifiedBy>Charles Kimball</cp:lastModifiedBy>
  <dcterms:modified xsi:type="dcterms:W3CDTF">2005-08-03T15:04:06Z</dcterms:modified>
  <cp:revision>20</cp:revision>
  <dc:subject/>
  <dc:title>Milestones in the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