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9.wmf" ContentType="image/x-wmf"/>
  <Override PartName="/ppt/media/gunshot.wav" ContentType="audio/x-wav"/>
  <Override PartName="/ppt/media/image11.wmf" ContentType="image/x-wmf"/>
  <Override PartName="/ppt/media/image3.png" ContentType="image/png"/>
  <Override PartName="/ppt/media/image12.wmf" ContentType="image/x-wmf"/>
  <Override PartName="/ppt/media/image4.png" ContentType="image/png"/>
  <Override PartName="/ppt/media/type.wav" ContentType="audio/x-wav"/>
  <Override PartName="/ppt/media/SHIPBUMP.WAV" ContentType="audio/x-wav"/>
  <Override PartName="/ppt/media/YES.WAV" ContentType="audio/x-wav"/>
  <Override PartName="/ppt/media/image6.wmf" ContentType="image/x-wmf"/>
  <Override PartName="/ppt/media/image10.gif" ContentType="image/gif"/>
  <Override PartName="/ppt/media/image8.wmf" ContentType="image/x-wmf"/>
  <Override PartName="/ppt/media/hammer.wav" ContentType="audio/x-wav"/>
  <Override PartName="/ppt/media/image20.png" ContentType="image/png"/>
  <Override PartName="/ppt/media/4BUZZ.WAV" ContentType="audio/x-wav"/>
  <Override PartName="/ppt/media/image7.wmf" ContentType="image/x-wmf"/>
  <Override PartName="/ppt/media/YELLING.WAV" ContentType="audio/x-wav"/>
  <Override PartName="/ppt/media/image5.png" ContentType="image/png"/>
  <Override PartName="/ppt/media/image13.wmf" ContentType="image/x-wmf"/>
  <Override PartName="/ppt/media/image1.jpeg" ContentType="image/jpeg"/>
  <Override PartName="/ppt/media/image15.wmf" ContentType="image/x-wmf"/>
  <Override PartName="/ppt/media/carbrake.wav" ContentType="audio/x-wav"/>
  <Override PartName="/ppt/media/image16.wmf" ContentType="image/x-wmf"/>
  <Override PartName="/ppt/media/image2.png" ContentType="image/png"/>
  <Override PartName="/ppt/media/image9.gif" ContentType="image/gif"/>
  <Override PartName="/ppt/media/chimes.wav" ContentType="audio/x-wav"/>
  <Override PartName="/ppt/media/IGOR.WAV" ContentType="audio/x-wav"/>
  <Override PartName="/ppt/media/image14.wmf" ContentType="image/x-wmf"/>
  <Override PartName="/ppt/media/image17.wmf" ContentType="image/x-wmf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413F-08BA-48AA-A050-4CD2CA1F3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2248-B4AD-49AF-AA9D-B1862FCF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F24B-FA6D-4582-AB57-169F5F67C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DBDA-D8F0-49A8-BC3D-BF8D239AB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D855-CE9B-4EA5-BE3E-EBF0EFFA0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DCC7-CC6E-4259-81F1-CFCBF656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D9B0-7E3F-4087-BAE4-EC41EBEA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E606-F558-4E54-8A87-7326DEAB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5B19-64CB-48A1-9124-B4552083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BE08-7BE9-4A5C-9D2B-73F0EBC5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D3D6-23F1-49C6-90E9-52A3E42E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B7E1-67A9-40E7-9AB2-51C89DD9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22093-8E7B-4EFB-833E-A09DFF9D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D6590-9A1F-47E2-B22B-A65DDFE7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7DDC-D54C-4994-B9AD-3387E65F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F1EB-3AE5-4E0C-8A58-884EBB0E8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6B70-777B-4514-AE4A-9E541E17B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63A6-AC6D-49E1-BF4F-8AECED13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86A6-A1FF-4958-8587-902F294C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B8B9-6B0E-46C3-BDE0-D21B5F14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1692-E771-426F-AAF5-8527F3CC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7000-B608-4667-A786-6BE4B5DB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6707-0EEF-490C-89BA-1B2D081D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2522-A7F4-4221-BB45-A15E6FE5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2494-BE21-4928-882F-71FE8377A866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F396-9368-4D4E-9A6F-656A821D1973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audio" Target="../media/YES.WAV"/><Relationship Id="rId4" Type="http://schemas.openxmlformats.org/officeDocument/2006/relationships/audio" Target="../media/IGOR.WAV"/><Relationship Id="rId5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faculty.valenciacc.edu/ckimball/papers/" TargetMode="Externa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4BUZZ.WAV"/><Relationship Id="rId2" Type="http://schemas.openxmlformats.org/officeDocument/2006/relationships/audio" Target="../media/4BUZZ.WAV"/><Relationship Id="rId3" Type="http://schemas.openxmlformats.org/officeDocument/2006/relationships/audio" Target="../media/4BUZZ.WAV"/><Relationship Id="rId4" Type="http://schemas.openxmlformats.org/officeDocument/2006/relationships/audio" Target="../media/4BUZZ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unshot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SCREAM.WAV" TargetMode="External"/><Relationship Id="rId2" Type="http://schemas.microsoft.com/office/2007/relationships/media" Target="file:///tmp/home/.config/libreoffice/4/user/gallery/SCREAM.WAV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audio" Target="../media/SHIPBUMP.WAV"/><Relationship Id="rId4" Type="http://schemas.openxmlformats.org/officeDocument/2006/relationships/audio" Target="../media/SHIPBUMP.WAV"/><Relationship Id="rId5" Type="http://schemas.openxmlformats.org/officeDocument/2006/relationships/audio" Target="../media/SHIPBUMP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YELLING.WAV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8f8f8"/>
                </a:solidFill>
                <a:latin typeface="Tahoma"/>
              </a:rPr>
              <a:t>Netiquette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From the words “net” and “etiquette,” get it?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Quote only the part of a message you’re responding to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7960" y="1752480"/>
            <a:ext cx="3809880" cy="4191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590920" y="2643120"/>
            <a:ext cx="397332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Keep those signature files short, too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895480" y="2743200"/>
            <a:ext cx="419112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e nice to the newbie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Remember when you were one?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514600" y="2438280"/>
            <a:ext cx="366408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on’t flirt in the chat room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You may think you’re talking with this . . 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7960" y="121896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When you’re really talking with this!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343400" y="2209680"/>
            <a:ext cx="4495680" cy="41594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85800" y="2514600"/>
            <a:ext cx="3554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Y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IG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on’t flood the chat room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ADKLQW00R23UJ59-AGFNF;RT3-Q3-VMAFJA;OORTU5-1-85ZVNM\ZJKC[AIT=Q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59BN03402IURUIVB-0WS936N7-00ZX?/?/!!!!!!!!!!!!!!!!!dfOHIEN5902860NAT88W77*A*774Z\4G4W74YQ++7TYA=S9S==9HXBMMait=1969=sj\[fiqQ=59WORIEITYUABUTTHEADBUTTHEADBUTTHEAD!!!!!!!!!!!!!!!!!!!!!!!!!!!!!!!!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espect intellectual property right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5105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ever, 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ever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, do these on company time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Pornography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Online game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914400" y="3962520"/>
            <a:ext cx="3352680" cy="14461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867280" y="3733920"/>
            <a:ext cx="1913040" cy="20192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6172200" y="3886200"/>
            <a:ext cx="1630440" cy="1650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1447920" y="3886200"/>
            <a:ext cx="163008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nsider using a spellchecke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619760" cy="40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f all this is too much to remember, go by the golden rul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200400" y="2895480"/>
            <a:ext cx="29844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2635200"/>
            <a:ext cx="7504200" cy="33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Another PowerPoint presentation by Charles Kimball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To view more like it, visit the </a:t>
            </a:r>
            <a:r>
              <a:rPr b="0" lang="en-US" sz="2800" spc="-1" strike="noStrike" u="sng">
                <a:solidFill>
                  <a:srgbClr val="00ffff"/>
                </a:solidFill>
                <a:uFillTx/>
                <a:latin typeface="Tahoma"/>
                <a:hlinkClick r:id="rId1"/>
              </a:rPr>
              <a:t>Technology For Educators HQ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Tahoma"/>
              </a:rPr>
              <a:t>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657600" y="5335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It took 38 years for radio to gain 50 million listeners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It took 13 years for television to gain 50 million viewers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But it only took 4 years for the Internet to gain 50 million users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r that reason, the Internet is no longer the wild frontier that it was in the 1990s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4BUZZ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4BUZZ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4BUZZ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4BUZZ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533520"/>
            <a:ext cx="8382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You don’t need many rules if you are driving and nobody else is on the highway, but you do when the roads are crowded during rush hour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Likewise, the more crowded the Internet gets, the more important are guidelines for good online behavior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Here is what I have learned from my own experience.  These rules apply to e-mail, bulletin boards/forums, and chat rooms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on’t Spam</a:t>
            </a:r>
            <a:br>
              <a:rPr sz="3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means n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Unsolicited Commercial E-mail (UCE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Off-Topic Messages on Bulletin Board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hain Letter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rwarding of E-mail Hoaxe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4114800"/>
            <a:ext cx="223524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Use the subject line if you have on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32484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2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267080" y="2895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762120" y="609480"/>
            <a:ext cx="761976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DON'T USE ALL CAPS!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2013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3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nd &amp; receive e-mail attachments with car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85440" y="1752480"/>
            <a:ext cx="3809880" cy="41911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Ask before sending really large attachment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onsider using a zip/unzip program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Watch out for viruses!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197320" y="2895480"/>
            <a:ext cx="32720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HIPBU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HIPBU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HIPBU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fore taking part in a chat room or bulletin board discussion, learn the ru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355760" y="1752480"/>
            <a:ext cx="64324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o Trolls!  This means no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4952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Abusive, insulting behavior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Impersonation of other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Revealing real-life info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reating websites to bully classmate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yberstalking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664240" y="1676520"/>
            <a:ext cx="34797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YELL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9T19:10:09Z</dcterms:created>
  <dc:creator>SSL19</dc:creator>
  <dc:description/>
  <dc:language>en-US</dc:language>
  <cp:lastModifiedBy>Charles Kimball</cp:lastModifiedBy>
  <dcterms:modified xsi:type="dcterms:W3CDTF">2006-04-14T15:31:37Z</dcterms:modified>
  <cp:revision>30</cp:revision>
  <dc:subject/>
  <dc:title>Netiquette</dc:title>
</cp:coreProperties>
</file>