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BOING.WAV" ContentType="audio/x-wav"/>
  <Override PartName="/ppt/media/image2.jpeg" ContentType="image/jpeg"/>
  <Override PartName="/ppt/media/cymbals.wav" ContentType="audio/x-wav"/>
  <Override PartName="/ppt/media/image3.png" ContentType="image/png"/>
  <Override PartName="/ppt/media/whoosh.wav" ContentType="audio/x-wav"/>
  <Override PartName="/ppt/media/driveby.wav" ContentType="audio/x-wav"/>
  <Override PartName="/ppt/media/voltage.wav" ContentType="audio/x-wav"/>
  <Override PartName="/ppt/media/WHIP.WAV" ContentType="audio/x-wav"/>
  <Override PartName="/ppt/media/chimes.wav" ContentType="audio/x-wav"/>
  <Override PartName="/ppt/media/RimShot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711B-C10C-493D-8C4D-98C82941A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47560" y="5331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8960" y="1752120"/>
            <a:ext cx="6629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18960" y="4020840"/>
            <a:ext cx="6629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93BC-FA56-455A-9402-51D08E269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47560" y="5331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18960" y="1752120"/>
            <a:ext cx="3234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15920" y="1752120"/>
            <a:ext cx="3234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18960" y="4020840"/>
            <a:ext cx="3234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15920" y="4020840"/>
            <a:ext cx="3234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A86F-7A9D-4F0D-AD2D-DC715AF84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47560" y="5331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18960" y="1752120"/>
            <a:ext cx="21344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60680" y="1752120"/>
            <a:ext cx="21344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02040" y="1752120"/>
            <a:ext cx="21344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18960" y="4020840"/>
            <a:ext cx="21344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60680" y="4020840"/>
            <a:ext cx="21344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02040" y="4020840"/>
            <a:ext cx="21344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F8B9-3273-43A3-9C20-66C1F6FA9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3E8AD-E907-49D4-BC4C-4CED95D9D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47560" y="5331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18960" y="1752120"/>
            <a:ext cx="6629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39A94-D07A-4F79-B75F-310EF519D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7560" y="5331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18960" y="1752120"/>
            <a:ext cx="6629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7969C-5B08-48EE-A4B3-14C18DBC9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47560" y="5331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18960" y="1752120"/>
            <a:ext cx="32349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15920" y="1752120"/>
            <a:ext cx="32349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D2653-0315-48FF-8A70-C3A6AD8C1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47560" y="5331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DFB51-4389-4BC1-BB06-927E21DB1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447560" y="533160"/>
            <a:ext cx="6172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E443C-2D82-4713-BB85-0138C461F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47560" y="5331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18960" y="1752120"/>
            <a:ext cx="3234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15920" y="1752120"/>
            <a:ext cx="32349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18960" y="4020840"/>
            <a:ext cx="3234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18509-D6B2-41CA-83FC-1D3066040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47560" y="5331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18960" y="1752120"/>
            <a:ext cx="6629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BFA1-9815-4EFC-8AE5-6BECF76EA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7560" y="5331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18960" y="1752120"/>
            <a:ext cx="32349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15920" y="1752120"/>
            <a:ext cx="3234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15920" y="4020840"/>
            <a:ext cx="3234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365C9-C10C-4F13-BE8B-80F839649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47560" y="5331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8960" y="1752120"/>
            <a:ext cx="3234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15920" y="1752120"/>
            <a:ext cx="3234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8960" y="4020840"/>
            <a:ext cx="6629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2EC2A-5F75-4D56-B131-8394FABA2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47560" y="5331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8960" y="1752120"/>
            <a:ext cx="6629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18960" y="4020840"/>
            <a:ext cx="6629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D93AD-995C-41DA-8658-6537A7D57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47560" y="5331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18960" y="1752120"/>
            <a:ext cx="3234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15920" y="1752120"/>
            <a:ext cx="3234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18960" y="4020840"/>
            <a:ext cx="3234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15920" y="4020840"/>
            <a:ext cx="3234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A0815-B25A-42B9-910A-605954AFA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47560" y="5331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8960" y="1752120"/>
            <a:ext cx="21344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60680" y="1752120"/>
            <a:ext cx="21344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02040" y="1752120"/>
            <a:ext cx="21344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18960" y="4020840"/>
            <a:ext cx="21344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460680" y="4020840"/>
            <a:ext cx="21344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02040" y="4020840"/>
            <a:ext cx="21344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029DD-5F85-4FC5-84C6-91BABF9AC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47560" y="5331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18960" y="1752120"/>
            <a:ext cx="6629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E32F-52D5-457E-BFF8-994F114B0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47560" y="5331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18960" y="1752120"/>
            <a:ext cx="32349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15920" y="1752120"/>
            <a:ext cx="32349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58E8-79CB-447C-B80C-0BFD638E0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7560" y="5331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FE07-21FD-4437-8C85-206ADDF8C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47560" y="533160"/>
            <a:ext cx="6172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B6D9-EF1C-4721-B804-A63F9D1DF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47560" y="5331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18960" y="1752120"/>
            <a:ext cx="3234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15920" y="1752120"/>
            <a:ext cx="32349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18960" y="4020840"/>
            <a:ext cx="3234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A0D4-470A-4ABE-8501-249A90FF9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47560" y="5331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8960" y="1752120"/>
            <a:ext cx="32349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15920" y="1752120"/>
            <a:ext cx="3234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15920" y="4020840"/>
            <a:ext cx="3234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C262-FD6C-4AA3-B86A-82D1A83F8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47560" y="5331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8960" y="1752120"/>
            <a:ext cx="3234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15920" y="1752120"/>
            <a:ext cx="3234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18960" y="4020840"/>
            <a:ext cx="6629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5D02-D6A2-47B7-B6AA-E6A5223FF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560" y="533160"/>
            <a:ext cx="61722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8960" y="1752120"/>
            <a:ext cx="6629400" cy="434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66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66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66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66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ff66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66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66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66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66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66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66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66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EC93F-8952-424D-8422-2DE1BA599F8B}" type="slidenum">
              <a:rPr b="0" lang="en-US" sz="1400" spc="-1" strike="noStrike">
                <a:solidFill>
                  <a:srgbClr val="ff66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66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66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66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66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66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301FF-87B1-469B-83CD-B5CCB8852E7D}" type="slidenum">
              <a:rPr b="0" lang="en-US" sz="1400" spc="-1" strike="noStrike">
                <a:solidFill>
                  <a:srgbClr val="ff66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66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66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66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faculty.valenciacc.edu/ckimball/papers/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google.com/" TargetMode="External"/><Relationship Id="rId3" Type="http://schemas.openxmlformats.org/officeDocument/2006/relationships/hyperlink" Target="http://www.gahooyoogle.com/" TargetMode="External"/><Relationship Id="rId4" Type="http://schemas.openxmlformats.org/officeDocument/2006/relationships/hyperlink" Target="http://www.soople.com/" TargetMode="External"/><Relationship Id="rId5" Type="http://schemas.openxmlformats.org/officeDocument/2006/relationships/hyperlink" Target="http://www.yahoo.com/" TargetMode="External"/><Relationship Id="rId6" Type="http://schemas.openxmlformats.org/officeDocument/2006/relationships/hyperlink" Target="http://www.amazon.com/exec/obidos/redirect-home/xenohistorian?tag-id=xenohistorian&amp;placement=holiday-home-btn-120x90.gif&amp;site=amazon" TargetMode="External"/><Relationship Id="rId7" Type="http://schemas.openxmlformats.org/officeDocument/2006/relationships/hyperlink" Target="http://www.a9.com/" TargetMode="External"/><Relationship Id="rId8" Type="http://schemas.openxmlformats.org/officeDocument/2006/relationships/hyperlink" Target="http://www.msn.com/" TargetMode="External"/><Relationship Id="rId9" Type="http://schemas.openxmlformats.org/officeDocument/2006/relationships/hyperlink" Target="http://www.altavista.com/" TargetMode="External"/><Relationship Id="rId10" Type="http://schemas.openxmlformats.org/officeDocument/2006/relationships/audio" Target="../media/whoosh.wav"/><Relationship Id="rId11" Type="http://schemas.openxmlformats.org/officeDocument/2006/relationships/audio" Target="../media/whoosh.wav"/><Relationship Id="rId12" Type="http://schemas.openxmlformats.org/officeDocument/2006/relationships/audio" Target="../media/whoosh.wav"/><Relationship Id="rId13" Type="http://schemas.openxmlformats.org/officeDocument/2006/relationships/audio" Target="../media/whoosh.wav"/><Relationship Id="rId14" Type="http://schemas.openxmlformats.org/officeDocument/2006/relationships/audio" Target="../media/whoosh.wav"/><Relationship Id="rId15" Type="http://schemas.openxmlformats.org/officeDocument/2006/relationships/audio" Target="../media/whoosh.wav"/><Relationship Id="rId16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srch.excite.com/" TargetMode="External"/><Relationship Id="rId3" Type="http://schemas.openxmlformats.org/officeDocument/2006/relationships/hyperlink" Target="http://www.dogpile.com/" TargetMode="External"/><Relationship Id="rId4" Type="http://schemas.openxmlformats.org/officeDocument/2006/relationships/hyperlink" Target="http://www.alltheweb.com/" TargetMode="External"/><Relationship Id="rId5" Type="http://schemas.openxmlformats.org/officeDocument/2006/relationships/hyperlink" Target="http://www.aol.com/" TargetMode="External"/><Relationship Id="rId6" Type="http://schemas.openxmlformats.org/officeDocument/2006/relationships/hyperlink" Target="http://search.iwon.com/" TargetMode="External"/><Relationship Id="rId7" Type="http://schemas.openxmlformats.org/officeDocument/2006/relationships/audio" Target="../media/driveby.wav"/><Relationship Id="rId8" Type="http://schemas.openxmlformats.org/officeDocument/2006/relationships/audio" Target="../media/driveby.wav"/><Relationship Id="rId9" Type="http://schemas.openxmlformats.org/officeDocument/2006/relationships/audio" Target="../media/driveby.wav"/><Relationship Id="rId10" Type="http://schemas.openxmlformats.org/officeDocument/2006/relationships/audio" Target="../media/driveby.wav"/><Relationship Id="rId11" Type="http://schemas.openxmlformats.org/officeDocument/2006/relationships/audio" Target="../media/driveby.wav"/><Relationship Id="rId1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search.com/" TargetMode="External"/><Relationship Id="rId3" Type="http://schemas.openxmlformats.org/officeDocument/2006/relationships/hyperlink" Target="http://www.search.com/" TargetMode="External"/><Relationship Id="rId4" Type="http://schemas.openxmlformats.org/officeDocument/2006/relationships/audio" Target="../media/voltage.wav"/><Relationship Id="rId5" Type="http://schemas.openxmlformats.org/officeDocument/2006/relationships/audio" Target="../media/voltage.wav"/><Relationship Id="rId6" Type="http://schemas.openxmlformats.org/officeDocument/2006/relationships/audio" Target="../media/voltage.wav"/><Relationship Id="rId7" Type="http://schemas.openxmlformats.org/officeDocument/2006/relationships/audio" Target="../media/voltage.wav"/><Relationship Id="rId8" Type="http://schemas.openxmlformats.org/officeDocument/2006/relationships/audio" Target="../media/voltage.wav"/><Relationship Id="rId9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HIP.WAV"/><Relationship Id="rId3" Type="http://schemas.openxmlformats.org/officeDocument/2006/relationships/audio" Target="../media/WHIP.WAV"/><Relationship Id="rId4" Type="http://schemas.openxmlformats.org/officeDocument/2006/relationships/audio" Target="../media/WHIP.WAV"/><Relationship Id="rId5" Type="http://schemas.openxmlformats.org/officeDocument/2006/relationships/audio" Target="../media/WHIP.WAV"/><Relationship Id="rId6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ymbals.wav"/><Relationship Id="rId3" Type="http://schemas.openxmlformats.org/officeDocument/2006/relationships/audio" Target="../media/cymbals.wav"/><Relationship Id="rId4" Type="http://schemas.openxmlformats.org/officeDocument/2006/relationships/audio" Target="../media/cymbals.wav"/><Relationship Id="rId5" Type="http://schemas.openxmlformats.org/officeDocument/2006/relationships/audio" Target="../media/cymbals.wav"/><Relationship Id="rId6" Type="http://schemas.openxmlformats.org/officeDocument/2006/relationships/audio" Target="../media/cymbals.wav"/><Relationship Id="rId7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BOING.WAV"/><Relationship Id="rId3" Type="http://schemas.openxmlformats.org/officeDocument/2006/relationships/audio" Target="../media/BOING.WAV"/><Relationship Id="rId4" Type="http://schemas.openxmlformats.org/officeDocument/2006/relationships/audio" Target="../media/BOING.WAV"/><Relationship Id="rId5" Type="http://schemas.openxmlformats.org/officeDocument/2006/relationships/audio" Target="../media/BOING.WAV"/><Relationship Id="rId6" Type="http://schemas.openxmlformats.org/officeDocument/2006/relationships/audio" Target="../media/BOING.WAV"/><Relationship Id="rId7" Type="http://schemas.openxmlformats.org/officeDocument/2006/relationships/audio" Target="../media/BOING.WAV"/><Relationship Id="rId8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RimShot.wav"/><Relationship Id="rId3" Type="http://schemas.openxmlformats.org/officeDocument/2006/relationships/audio" Target="../media/RimShot.wav"/><Relationship Id="rId4" Type="http://schemas.openxmlformats.org/officeDocument/2006/relationships/audio" Target="../media/RimShot.wav"/><Relationship Id="rId5" Type="http://schemas.openxmlformats.org/officeDocument/2006/relationships/audio" Target="../media/RimShot.wav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earch Engines!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47560" y="533160"/>
            <a:ext cx="61722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9320" y="2666520"/>
            <a:ext cx="6400800" cy="3429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66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66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Another PowerPoint presentation by Charles Kimball.</a:t>
            </a:r>
            <a:endParaRPr b="0" lang="en-US" sz="2800" spc="-1" strike="noStrike">
              <a:solidFill>
                <a:srgbClr val="ff66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To view more like it, visit the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Technology For Educators HQ</a:t>
            </a:r>
            <a:r>
              <a:rPr b="0" lang="en-US" sz="2800" spc="-1" strike="noStrike" u="sng">
                <a:solidFill>
                  <a:srgbClr val="ff6600"/>
                </a:solidFill>
                <a:uFillTx/>
                <a:latin typeface="Arial"/>
              </a:rPr>
              <a:t>.</a:t>
            </a:r>
            <a:endParaRPr b="0" lang="en-US" sz="2800" spc="-1" strike="noStrike">
              <a:solidFill>
                <a:srgbClr val="ff66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3657600" y="53352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3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3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47560" y="533160"/>
            <a:ext cx="61722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First, the Top Fiv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18960" y="2285640"/>
            <a:ext cx="6476760" cy="380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cccc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Google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ff66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Try also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Gahoo!Yoogle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** and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Soople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**.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cccc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Yahoo!</a:t>
            </a:r>
            <a:endParaRPr b="0" lang="en-US" sz="2800" spc="-1" strike="noStrike">
              <a:solidFill>
                <a:srgbClr val="ff66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cccc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Amazon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 (includes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Arial"/>
                <a:hlinkClick r:id="rId7"/>
              </a:rPr>
              <a:t>A9.com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66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cccc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Arial"/>
                <a:hlinkClick r:id="rId8"/>
              </a:rPr>
              <a:t>MSN</a:t>
            </a:r>
            <a:endParaRPr b="0" lang="en-US" sz="2800" spc="-1" strike="noStrike">
              <a:solidFill>
                <a:srgbClr val="ff66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ccccff"/>
              </a:buClr>
              <a:buFont typeface="Arial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Arial"/>
                <a:hlinkClick r:id="rId9"/>
              </a:rPr>
              <a:t>Alta Vista</a:t>
            </a:r>
            <a:endParaRPr b="0" lang="en-US" sz="2800" spc="-1" strike="noStrike">
              <a:solidFill>
                <a:srgbClr val="ff66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294920" y="5562720"/>
            <a:ext cx="624852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6600"/>
                </a:solidFill>
                <a:latin typeface="Arial"/>
              </a:rPr>
              <a:t>*An intuitive search engine</a:t>
            </a:r>
            <a:endParaRPr b="0" lang="en-US" sz="1400" spc="-1" strike="noStrike">
              <a:solidFill>
                <a:srgbClr val="ff66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6600"/>
                </a:solidFill>
                <a:latin typeface="Arial"/>
              </a:rPr>
              <a:t>**A meta-search engine</a:t>
            </a:r>
            <a:endParaRPr b="0" lang="en-US" sz="1400" spc="-1" strike="noStrike">
              <a:solidFill>
                <a:srgbClr val="ff6600"/>
              </a:solidFill>
              <a:latin typeface="Arial"/>
            </a:endParaRPr>
          </a:p>
        </p:txBody>
      </p:sp>
    </p:spTree>
  </p:cSld>
  <p:transition spd="med">
    <p:pull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447560" y="533160"/>
            <a:ext cx="61722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Some More Popular Search Engines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218960" y="2285640"/>
            <a:ext cx="6553080" cy="380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ccccff"/>
              </a:buClr>
              <a:buFont typeface="Arial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Excite</a:t>
            </a:r>
            <a:endParaRPr b="0" lang="en-US" sz="2800" spc="-1" strike="noStrike">
              <a:solidFill>
                <a:srgbClr val="ff66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ccccff"/>
              </a:buClr>
              <a:buFont typeface="Arial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Dogpile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**</a:t>
            </a:r>
            <a:endParaRPr b="0" lang="en-US" sz="2800" spc="-1" strike="noStrike">
              <a:solidFill>
                <a:srgbClr val="ff66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ccccff"/>
              </a:buClr>
              <a:buFont typeface="Arial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AllTheWeb</a:t>
            </a:r>
            <a:endParaRPr b="0" lang="en-US" sz="2800" spc="-1" strike="noStrike">
              <a:solidFill>
                <a:srgbClr val="ff66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ccccff"/>
              </a:buClr>
              <a:buFont typeface="Arial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AOL</a:t>
            </a:r>
            <a:endParaRPr b="0" lang="en-US" sz="2800" spc="-1" strike="noStrike">
              <a:solidFill>
                <a:srgbClr val="ff66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ccccff"/>
              </a:buClr>
              <a:buFont typeface="Arial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IWon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* </a:t>
            </a:r>
            <a:endParaRPr b="0" lang="en-US" sz="2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295280" y="5181480"/>
            <a:ext cx="655344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Arial"/>
              </a:rPr>
              <a:t>*An intuitive search engine</a:t>
            </a:r>
            <a:endParaRPr b="0" lang="en-US" sz="1600" spc="-1" strike="noStrike">
              <a:solidFill>
                <a:srgbClr val="ff66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Arial"/>
              </a:rPr>
              <a:t>**A meta-search engine</a:t>
            </a:r>
            <a:endParaRPr b="0" lang="en-US" sz="1600" spc="-1" strike="noStrike">
              <a:solidFill>
                <a:srgbClr val="ff66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6600"/>
              </a:solidFill>
              <a:latin typeface="Arial"/>
            </a:endParaRPr>
          </a:p>
        </p:txBody>
      </p:sp>
    </p:spTree>
  </p:cSld>
  <p:transition spd="med">
    <p:pull dir="rd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7560" y="533160"/>
            <a:ext cx="61722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6553080" cy="2819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Arial"/>
              <a:buAutoNum type="arabicParenR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  <a:ea typeface="Arial"/>
              </a:rPr>
              <a:t>Netscape</a:t>
            </a:r>
            <a:endParaRPr b="0" lang="en-US" sz="2800" spc="-1" strike="noStrike">
              <a:solidFill>
                <a:srgbClr val="ff66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Arial"/>
              <a:buAutoNum type="arabicParenR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Earthlink</a:t>
            </a:r>
            <a:endParaRPr b="0" lang="en-US" sz="2800" spc="-1" strike="noStrike">
              <a:solidFill>
                <a:srgbClr val="ff66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Arial"/>
              <a:buAutoNum type="arabicParenR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Ask Jeeves*** (http://www.ask.com)</a:t>
            </a:r>
            <a:endParaRPr b="0" lang="en-US" sz="2800" spc="-1" strike="noStrike">
              <a:solidFill>
                <a:srgbClr val="ff66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Arial"/>
              <a:buAutoNum type="arabicParenR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MetaCrawler</a:t>
            </a:r>
            <a:endParaRPr b="0" lang="en-US" sz="2800" spc="-1" strike="noStrike">
              <a:solidFill>
                <a:srgbClr val="ff66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Arial"/>
              <a:buAutoNum type="arabicParenR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CNet (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www.search.com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 )</a:t>
            </a:r>
            <a:endParaRPr b="0" lang="en-US" sz="2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1218960" y="4952520"/>
            <a:ext cx="6629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6600"/>
                </a:solidFill>
                <a:latin typeface="Arial"/>
              </a:rPr>
              <a:t>*An intuitive search engine</a:t>
            </a:r>
            <a:endParaRPr b="0" lang="en-US" sz="1400" spc="-1" strike="noStrike">
              <a:solidFill>
                <a:srgbClr val="ff66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6600"/>
                </a:solidFill>
                <a:latin typeface="Arial"/>
              </a:rPr>
              <a:t>**A meta-search engine</a:t>
            </a:r>
            <a:endParaRPr b="0" lang="en-US" sz="1400" spc="-1" strike="noStrike">
              <a:solidFill>
                <a:srgbClr val="ff66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6600"/>
              </a:solidFill>
              <a:latin typeface="Arial"/>
            </a:endParaRPr>
          </a:p>
        </p:txBody>
      </p:sp>
    </p:spTree>
  </p:cSld>
  <p:transition spd="med">
    <p:pull dir="rd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47560" y="533160"/>
            <a:ext cx="61722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6476760" cy="2743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6600"/>
              </a:buClr>
              <a:buFont typeface="Arial"/>
              <a:buAutoNum type="arabicParenR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Hotbot**</a:t>
            </a:r>
            <a:endParaRPr b="0" lang="en-US" sz="2800" spc="-1" strike="noStrike">
              <a:solidFill>
                <a:srgbClr val="ff66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6600"/>
              </a:buClr>
              <a:buFont typeface="Arial"/>
              <a:buAutoNum type="arabicParenR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Mamma**</a:t>
            </a:r>
            <a:endParaRPr b="0" lang="en-US" sz="2800" spc="-1" strike="noStrike">
              <a:solidFill>
                <a:srgbClr val="ff66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6600"/>
              </a:buClr>
              <a:buFont typeface="Arial"/>
              <a:buAutoNum type="arabicParenR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Lycos</a:t>
            </a:r>
            <a:endParaRPr b="0" lang="en-US" sz="2800" spc="-1" strike="noStrike">
              <a:solidFill>
                <a:srgbClr val="ff66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6600"/>
              </a:buClr>
              <a:buFont typeface="Arial"/>
              <a:buAutoNum type="arabicParenR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Go</a:t>
            </a:r>
            <a:endParaRPr b="0" lang="en-US" sz="2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1295280" y="5181480"/>
            <a:ext cx="655344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6600"/>
                </a:solidFill>
                <a:latin typeface="Arial"/>
              </a:rPr>
              <a:t>*An intuitive search engine</a:t>
            </a:r>
            <a:endParaRPr b="0" lang="en-US" sz="1400" spc="-1" strike="noStrike">
              <a:solidFill>
                <a:srgbClr val="ff66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6600"/>
                </a:solidFill>
                <a:latin typeface="Arial"/>
              </a:rPr>
              <a:t>**A  meta-search engine</a:t>
            </a:r>
            <a:endParaRPr b="0" lang="en-US" sz="1400" spc="-1" strike="noStrike">
              <a:solidFill>
                <a:srgbClr val="ff6600"/>
              </a:solidFill>
              <a:latin typeface="Arial"/>
            </a:endParaRPr>
          </a:p>
        </p:txBody>
      </p:sp>
    </p:spTree>
  </p:cSld>
  <p:transition spd="med">
    <p:pull dir="rd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I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I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I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I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47560" y="533160"/>
            <a:ext cx="61722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More that are worth using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77120" cy="259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InfoSpace </a:t>
            </a:r>
            <a:endParaRPr b="0" lang="en-US" sz="2800" spc="-1" strike="noStrike">
              <a:solidFill>
                <a:srgbClr val="ff66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IXquick**</a:t>
            </a:r>
            <a:endParaRPr b="0" lang="en-US" sz="2800" spc="-1" strike="noStrike">
              <a:solidFill>
                <a:srgbClr val="ff66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Kartoo</a:t>
            </a:r>
            <a:endParaRPr b="0" lang="en-US" sz="2800" spc="-1" strike="noStrike">
              <a:solidFill>
                <a:srgbClr val="ff66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Lukol**</a:t>
            </a:r>
            <a:endParaRPr b="0" lang="en-US" sz="2800" spc="-1" strike="noStrike">
              <a:solidFill>
                <a:srgbClr val="ff66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Looksmart</a:t>
            </a:r>
            <a:endParaRPr b="0" lang="en-US" sz="2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295280" y="5181480"/>
            <a:ext cx="655344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6600"/>
                </a:solidFill>
                <a:latin typeface="Arial"/>
              </a:rPr>
              <a:t>**A  meta-search engine</a:t>
            </a:r>
            <a:endParaRPr b="0" lang="en-US" sz="1400" spc="-1" strike="noStrike">
              <a:solidFill>
                <a:srgbClr val="ff66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6600"/>
              </a:solidFill>
              <a:latin typeface="Arial"/>
            </a:endParaRPr>
          </a:p>
        </p:txBody>
      </p:sp>
    </p:spTree>
  </p:cSld>
  <p:transition spd="med">
    <p:pull dir="rd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ymbal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ymbal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ymbal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ymbal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ymbal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47560" y="533160"/>
            <a:ext cx="61722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2209320"/>
            <a:ext cx="6705360" cy="3886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  <a:ea typeface="Arial"/>
              </a:rPr>
              <a:t>Open Directory Project (DMOZ.com)</a:t>
            </a:r>
            <a:endParaRPr b="0" lang="en-US" sz="2800" spc="-1" strike="noStrike">
              <a:solidFill>
                <a:srgbClr val="ff66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  <a:ea typeface="Arial"/>
              </a:rPr>
              <a:t>Wisenut*</a:t>
            </a:r>
            <a:endParaRPr b="0" lang="en-US" sz="2800" spc="-1" strike="noStrike">
              <a:solidFill>
                <a:srgbClr val="ff66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Scirus</a:t>
            </a:r>
            <a:endParaRPr b="0" lang="en-US" sz="2800" spc="-1" strike="noStrike">
              <a:solidFill>
                <a:srgbClr val="ff66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Profusion**</a:t>
            </a:r>
            <a:endParaRPr b="0" lang="en-US" sz="2800" spc="-1" strike="noStrike">
              <a:solidFill>
                <a:srgbClr val="ff66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Icerocket</a:t>
            </a:r>
            <a:endParaRPr b="0" lang="en-US" sz="2800" spc="-1" strike="noStrike">
              <a:solidFill>
                <a:srgbClr val="ff66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Gigablast</a:t>
            </a:r>
            <a:endParaRPr b="0" lang="en-US" sz="2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371600" y="5409720"/>
            <a:ext cx="64771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6600"/>
                </a:solidFill>
                <a:latin typeface="Arial"/>
              </a:rPr>
              <a:t>*An intuitive search engine</a:t>
            </a:r>
            <a:endParaRPr b="0" lang="en-US" sz="1400" spc="-1" strike="noStrike">
              <a:solidFill>
                <a:srgbClr val="ff66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6600"/>
                </a:solidFill>
                <a:latin typeface="Arial"/>
              </a:rPr>
              <a:t>**A meta-search engine</a:t>
            </a:r>
            <a:endParaRPr b="0" lang="en-US" sz="1400" spc="-1" strike="noStrike">
              <a:solidFill>
                <a:srgbClr val="ff66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6600"/>
              </a:solidFill>
              <a:latin typeface="Arial"/>
            </a:endParaRPr>
          </a:p>
        </p:txBody>
      </p:sp>
    </p:spTree>
  </p:cSld>
  <p:transition spd="med">
    <p:pull dir="rd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O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O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O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O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O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O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533160"/>
            <a:ext cx="84582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pecialty Search Engin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240" y="1752480"/>
            <a:ext cx="8915400" cy="5105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Besides the search engines already listed, there are thousands of others.</a:t>
            </a:r>
            <a:endParaRPr b="0" lang="en-US" sz="3200" spc="-1" strike="noStrike">
              <a:solidFill>
                <a:srgbClr val="ff66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Most do not search the entire World Wide Web, and are called specialty search engines.</a:t>
            </a:r>
            <a:endParaRPr b="0" lang="en-US" sz="3200" spc="-1" strike="noStrike">
              <a:solidFill>
                <a:srgbClr val="ff66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Some only get results from one website, or from websites devoted to one subject.</a:t>
            </a:r>
            <a:endParaRPr b="0" lang="en-US" sz="3200" spc="-1" strike="noStrike">
              <a:solidFill>
                <a:srgbClr val="ff66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Others look for research papers, MP3s, or pictures.</a:t>
            </a:r>
            <a:endParaRPr b="0" lang="en-US" sz="3200" spc="-1" strike="noStrike">
              <a:solidFill>
                <a:srgbClr val="ff66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Still others search databases or newsgroups.</a:t>
            </a:r>
            <a:endParaRPr b="0" lang="en-US" sz="3200" spc="-1" strike="noStrike">
              <a:solidFill>
                <a:srgbClr val="ff6600"/>
              </a:solidFill>
              <a:latin typeface="Arial"/>
            </a:endParaRPr>
          </a:p>
        </p:txBody>
      </p:sp>
    </p:spTree>
  </p:cSld>
  <p:transition spd="med">
    <p:pull dir="rd"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0106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Some tips for creative search engine use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610480" cy="3962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Use more than one search engine.  Google is great, but it can’t find everything!</a:t>
            </a:r>
            <a:endParaRPr b="0" lang="en-US" sz="3200" spc="-1" strike="noStrike">
              <a:solidFill>
                <a:srgbClr val="ff66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Use advanced search options.</a:t>
            </a:r>
            <a:endParaRPr b="0" lang="en-US" sz="3200" spc="-1" strike="noStrike">
              <a:solidFill>
                <a:srgbClr val="ff66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Consider using a specialty search engine.</a:t>
            </a:r>
            <a:endParaRPr b="0" lang="en-US" sz="3200" spc="-1" strike="noStrike">
              <a:solidFill>
                <a:srgbClr val="ff66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Try entering obscure words, so you won’t get back so many results.</a:t>
            </a:r>
            <a:endParaRPr b="0" lang="en-US" sz="3200" spc="-1" strike="noStrike">
              <a:solidFill>
                <a:srgbClr val="ff66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00"/>
              </a:solidFill>
              <a:latin typeface="Arial"/>
            </a:endParaRPr>
          </a:p>
        </p:txBody>
      </p:sp>
    </p:spTree>
  </p:cSld>
  <p:transition spd="med">
    <p:pull dir="rd"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im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Rim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Rim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im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1T21:12:15Z</dcterms:created>
  <dc:creator>Charles Kimball</dc:creator>
  <dc:description/>
  <dc:language>en-US</dc:language>
  <cp:lastModifiedBy>Charles Kimball</cp:lastModifiedBy>
  <dcterms:modified xsi:type="dcterms:W3CDTF">2006-04-14T21:00:31Z</dcterms:modified>
  <cp:revision>31</cp:revision>
  <dc:subject/>
  <dc:title>Search Engines!</dc:title>
</cp:coreProperties>
</file>