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IP.WAV" ContentType="audio/x-wav"/>
  <Override PartName="/ppt/media/image10.png" ContentType="image/png"/>
  <Override PartName="/ppt/media/breeze.wav" ContentType="audio/x-wav"/>
  <Override PartName="/ppt/media/image7.jpeg" ContentType="image/jpeg"/>
  <Override PartName="/ppt/media/camera.wav" ContentType="audio/x-wav"/>
  <Override PartName="/ppt/media/image6.png" ContentType="image/png"/>
  <Override PartName="/ppt/media/coin.wav" ContentType="audio/x-wav"/>
  <Override PartName="/ppt/media/image13.jpeg" ContentType="image/jpeg"/>
  <Override PartName="/ppt/media/image14.png" ContentType="image/png"/>
  <Override PartName="/ppt/media/push.wav" ContentType="audio/x-wav"/>
  <Override PartName="/ppt/media/CARBEEP.WAV" ContentType="audio/x-wav"/>
  <Override PartName="/ppt/media/chimes.wav" ContentType="audio/x-wav"/>
  <Override PartName="/ppt/media/cashreg.wav" ContentType="audio/x-wav"/>
  <Override PartName="/ppt/media/image12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F76-DC90-4B64-8EB8-37B3C00E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0B4-46C4-4473-A302-511AFD24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C43-A3F0-41C5-8FD6-0D6BC9FE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31F-207A-49B4-870C-4A8EDE00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1088-568F-43AF-8D01-FE5FDA6D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4EED-8E61-4EDE-B7AC-C29EE789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653-06BB-4B91-A09E-508A007E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DCD0-623E-4107-B851-ED99290F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1304-89EA-44CC-A647-DE38D17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9563-DB5E-469E-8B3B-E4FB1F84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FE47-35AE-4BC8-B10E-F73015F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B5C-0D8E-4119-949B-9F24FC0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D163-9DB8-4926-8868-02EDFD4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CA8-5D23-49BB-BF29-27075B3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3840-CD3E-4102-B919-BE920FA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DAB-0D77-45B6-947F-289E5967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27B9-0476-43C7-9F77-001F20A6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F4D-C822-4916-A687-7FE05F1D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6B0-8750-4732-85C2-CAC36883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E2F-8F60-448F-A891-0632D37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9DA-46C0-4481-9688-D6CF8583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9AA-9D8D-4D9F-8769-4B6880B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024-BCAC-4120-8533-47CF9CB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11D-FF42-41E1-A7C2-05B2C12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386F-2F6C-441F-9CB2-9EB55F2815CE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3E2-AB85-4437-B1E8-232A7487C7E8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CARBEEP.WAV"/><Relationship Id="rId9" Type="http://schemas.openxmlformats.org/officeDocument/2006/relationships/audio" Target="../media/CARBEEP.WAV"/><Relationship Id="rId10" Type="http://schemas.openxmlformats.org/officeDocument/2006/relationships/audio" Target="../media/CARBEEP.WAV"/><Relationship Id="rId11" Type="http://schemas.openxmlformats.org/officeDocument/2006/relationships/audio" Target="../media/CARBEEP.WAV"/><Relationship Id="rId12" Type="http://schemas.openxmlformats.org/officeDocument/2006/relationships/audio" Target="../media/CARBEEP.WAV"/><Relationship Id="rId13" Type="http://schemas.openxmlformats.org/officeDocument/2006/relationships/audio" Target="../media/CARBEEP.WAV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audio" Target="../media/push.wav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faculty.valenciacc.edu/ckimball/papers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WHIP.WAV"/><Relationship Id="rId5" Type="http://schemas.openxmlformats.org/officeDocument/2006/relationships/audio" Target="../media/WHIP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82400"/>
                </a:solidFill>
                <a:latin typeface="Times New Roman"/>
              </a:rPr>
              <a:t>A Brief History of Teaching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arles Kim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20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ven so, books were very expensive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828800"/>
            <a:ext cx="776916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verage noble might have twenty books in his library, and only the Church could afford more than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 price was caused by the amount of work, and expensive materials; it took about 300 sheepskins to make enough parchment for one B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666880" y="1066680"/>
            <a:ext cx="419580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9b80"/>
                                      </p:to>
                                    </p:animClr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9b80"/>
                                      </p:to>
                                    </p:animClr>
                                    <p:set>
                                      <p:cBhvr>
                                        <p:cTn id="15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ree inventions during the Renaissance made books easier to make, and easier to understand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3504960"/>
            <a:ext cx="7769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nting p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forms of modern languages (Italian, German, English, French and Spanis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John Amos Comeni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d in what is now the Czech Republic, 1592-16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knamed “The Incomparable Moravi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d textbooks with pictures 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010120" y="1752480"/>
            <a:ext cx="341172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18</a:t>
            </a:r>
            <a:r>
              <a:rPr b="0" lang="en-US" sz="44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&amp; 19</a:t>
            </a:r>
            <a:r>
              <a:rPr b="0" lang="en-US" sz="44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Century Innovation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widely used textbooks, lik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w England Pri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700s)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cGuffey R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40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 (1826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(185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dergarten, developed by Friedrich Froebel (1837) and Maria Montessori (190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arly Steps in the Audiovisual Movement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museums (190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films (191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 by radio (1929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media training (1945, for the armed for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TV (195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d instruction (195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velopments In My Lifetim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S (196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 makes the first personal computer (197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-assisted instruction (1980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-ROMs, teleconferencing, the Internet, virtual reality (1990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’s much more on the w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2000" y="2633760"/>
            <a:ext cx="75009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owerPoint presentation by Charles Kim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more like it, visit the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Technology For Educators HQ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ousands of years, methods of instruction didn’t change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act, most of the changes have taken place since 1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oldest forms of writing took many years to learn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17680" y="1766880"/>
            <a:ext cx="3097080" cy="411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24280" y="2514600"/>
            <a:ext cx="4259520" cy="283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60199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240" y="59436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And the teaching methods weren’t very friendly, either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lonians called a teacher “the one in charge of the whi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ptians liked to say that “a boy’s ears are on his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But if you could learn in school, it was worth it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then, less than 10 percent of the people knew how to read and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t good jobs for those who grad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200560" y="2286000"/>
            <a:ext cx="29764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n the alphabet replaced hieroglyphics &amp; cuneiform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5257440"/>
            <a:ext cx="7853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learning to read was still a challenge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59436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Because at this stage writing didn’t have many of the features that help us to understand it, like: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980720"/>
            <a:ext cx="776916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c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s between the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-case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wasn’t even clear which direction the words should be rea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How quickly do you think you can read something like this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599840"/>
            <a:ext cx="776916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, most writing in medieval Europe was done in Greek or Latin, not the languages people learned as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eval monks added spaces and lower-case letters to the manuscripts they copied, once they were convinced that this didn’t wast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39:38Z</dcterms:created>
  <dc:creator>Charles Kimball</dc:creator>
  <dc:description/>
  <dc:language>en-US</dc:language>
  <cp:lastModifiedBy>Charles Kimball</cp:lastModifiedBy>
  <dcterms:modified xsi:type="dcterms:W3CDTF">2004-10-15T00:57:16Z</dcterms:modified>
  <cp:revision>27</cp:revision>
  <dc:subject/>
  <dc:title>A Brief History of Teaching</dc:title>
</cp:coreProperties>
</file>