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applause.wav" ContentType="audio/x-wav"/>
  <Override PartName="/ppt/media/image10.png" ContentType="image/png"/>
  <Override PartName="/ppt/media/breeze.wav" ContentType="audio/x-wav"/>
  <Override PartName="/ppt/media/drumroll.wav" ContentType="audio/x-wav"/>
  <Override PartName="/ppt/media/image15.png" ContentType="image/png"/>
  <Override PartName="/ppt/media/image5.png" ContentType="image/png"/>
  <Override PartName="/ppt/media/image6.png" ContentType="image/png"/>
  <Override PartName="/ppt/media/BOING!.WAV" ContentType="audio/x-wav"/>
  <Override PartName="/ppt/media/image4.png" ContentType="image/png"/>
  <Override PartName="/ppt/media/image3.png" ContentType="image/png"/>
  <Override PartName="/ppt/media/image2.png" ContentType="image/png"/>
  <Override PartName="/ppt/media/BONGO2.WAV" ContentType="audio/x-wav"/>
  <Override PartName="/ppt/media/image14.png" ContentType="image/png"/>
  <Override PartName="/ppt/media/image21.png" ContentType="image/png"/>
  <Override PartName="/ppt/media/image19.png" ContentType="image/png"/>
  <Override PartName="/ppt/media/gong2.wav" ContentType="audio/x-wav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6E7-AE1E-425E-AD46-FCFC043F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63F-CA6F-43FA-9264-7646B557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4CD-2A7B-403D-8BF7-1AE65E76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0E3-AC36-416F-A718-87BE7618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47B8-E0D6-433A-BAEF-8D703746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3E9B-FBC6-427D-9EB4-D40F7852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FB22-4498-4521-8F01-7C5391BD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D453-9AF8-4D48-95E5-7C312C9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19FF-B826-4AE5-818A-3147A7E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8AF0-639D-4F43-8624-5851E737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2AF8-9D78-46D7-A983-390B1F31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872-B97D-4444-B709-6714DF30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E366-F9F1-4617-B6BF-7F3950B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6EC5-E201-49B8-9467-307DCC4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8AD-7D8D-4E90-A62E-F6002A44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85D7-D879-4515-9079-FB2FF2AC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B12D-9667-4D9B-B090-FF3CA7A8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9B5-D7E6-4143-96A3-3760D5B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C8B-C244-4230-BD27-BF3FAC8F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AC6-27FA-448B-8638-ED836BB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E68-8FE2-4D03-88E7-D1B7BCA5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5ED-CE58-4669-86A3-25AF5A55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E88-BB9C-429F-B0B6-E2613F5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80B-3313-484C-951D-4F1D67CE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0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482E-DB67-4EF2-A830-7F022B63C65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4C4-74B8-45E1-B501-36530C27C0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BOING!.WAV"/><Relationship Id="rId4" Type="http://schemas.openxmlformats.org/officeDocument/2006/relationships/audio" Target="../media/BOING!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audio" Target="../media/drumroll.wav"/><Relationship Id="rId12" Type="http://schemas.openxmlformats.org/officeDocument/2006/relationships/audio" Target="../media/applause.wav"/><Relationship Id="rId13" Type="http://schemas.openxmlformats.org/officeDocument/2006/relationships/audio" Target="../media/drumroll.wav"/><Relationship Id="rId14" Type="http://schemas.openxmlformats.org/officeDocument/2006/relationships/audio" Target="../media/applause.wav"/><Relationship Id="rId15" Type="http://schemas.openxmlformats.org/officeDocument/2006/relationships/audio" Target="../media/drumroll.wav"/><Relationship Id="rId16" Type="http://schemas.openxmlformats.org/officeDocument/2006/relationships/audio" Target="../media/applause.wav"/><Relationship Id="rId17" Type="http://schemas.openxmlformats.org/officeDocument/2006/relationships/audio" Target="../media/drumroll.wav"/><Relationship Id="rId18" Type="http://schemas.openxmlformats.org/officeDocument/2006/relationships/audio" Target="../media/applause.wav"/><Relationship Id="rId19" Type="http://schemas.openxmlformats.org/officeDocument/2006/relationships/audio" Target="../media/drumroll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audio" Target="../media/drumroll.wav"/><Relationship Id="rId12" Type="http://schemas.openxmlformats.org/officeDocument/2006/relationships/audio" Target="../media/applause.wav"/><Relationship Id="rId13" Type="http://schemas.openxmlformats.org/officeDocument/2006/relationships/audio" Target="../media/drumroll.wav"/><Relationship Id="rId14" Type="http://schemas.openxmlformats.org/officeDocument/2006/relationships/audio" Target="../media/applause.wav"/><Relationship Id="rId15" Type="http://schemas.openxmlformats.org/officeDocument/2006/relationships/audio" Target="../media/drumroll.wav"/><Relationship Id="rId16" Type="http://schemas.openxmlformats.org/officeDocument/2006/relationships/audio" Target="../media/applause.wav"/><Relationship Id="rId17" Type="http://schemas.openxmlformats.org/officeDocument/2006/relationships/audio" Target="../media/drumroll.wav"/><Relationship Id="rId18" Type="http://schemas.openxmlformats.org/officeDocument/2006/relationships/audio" Target="../media/applause.wav"/><Relationship Id="rId19" Type="http://schemas.openxmlformats.org/officeDocument/2006/relationships/audio" Target="../media/drumroll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audio" Target="../media/gong2.wav"/><Relationship Id="rId10" Type="http://schemas.openxmlformats.org/officeDocument/2006/relationships/audio" Target="../media/BONGO2.WAV"/><Relationship Id="rId11" Type="http://schemas.openxmlformats.org/officeDocument/2006/relationships/audio" Target="../media/gong2.wav"/><Relationship Id="rId12" Type="http://schemas.openxmlformats.org/officeDocument/2006/relationships/audio" Target="../media/BONGO2.WAV"/><Relationship Id="rId13" Type="http://schemas.openxmlformats.org/officeDocument/2006/relationships/audio" Target="../media/gong2.wav"/><Relationship Id="rId14" Type="http://schemas.openxmlformats.org/officeDocument/2006/relationships/audio" Target="../media/BONGO2.WAV"/><Relationship Id="rId15" Type="http://schemas.openxmlformats.org/officeDocument/2006/relationships/audio" Target="../media/gong2.wav"/><Relationship Id="rId16" Type="http://schemas.openxmlformats.org/officeDocument/2006/relationships/audio" Target="../media/BONGO2.WAV"/><Relationship Id="rId1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faculty.valenciacc.edu/ckimball/papers/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lenciacc.ed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lenciacc.edu/aboutus/locations/" TargetMode="External"/><Relationship Id="rId3" Type="http://schemas.openxmlformats.org/officeDocument/2006/relationships/hyperlink" Target="http://www.valenciacc.edu/aboutus/locations/" TargetMode="External"/><Relationship Id="rId4" Type="http://schemas.openxmlformats.org/officeDocument/2006/relationships/hyperlink" Target="http://www.valenciacc.edu/aboutus/locations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aculty.valenciacc.edu/ckimball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uzdessert.uz/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How Internet Addresses Work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y Charles Kimball, EME2040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edu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The website of a grade school, high school, college or universit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mil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Websites belonging to the armed forc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net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Websites having to do with computers and the Internet, or anything that doesn’t fit into the other five categori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Other suffix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ometimes you will run into websites with suffixes like .cc, .biz, .pro, and .info.  Despite all the hype, they’re not very common yet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.tv is not a suffix, but a country code, for the Pacific island nation of Tuvalu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!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!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ountry Cod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ternet addresses are also supposed to have a two-letter code, to tell you what country the website’s server is in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Only one country doesn’t use its country code much, the United States (.us)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ext you will see some common country cod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648320" y="457200"/>
            <a:ext cx="38098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uk – United Kingdom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ca – Canad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jp – Japa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mx – Mexico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br – Brazi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638680" y="304920"/>
            <a:ext cx="2057400" cy="1028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638680" y="1752480"/>
            <a:ext cx="2057400" cy="1028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5715000" y="32767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5715000" y="502920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2209680" y="4952880"/>
            <a:ext cx="202896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fr – Franc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it – Italy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ru – Russi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kr – (South) Kore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au – Australi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715000" y="228600"/>
            <a:ext cx="1981080" cy="1360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715000" y="1981080"/>
            <a:ext cx="1981080" cy="1200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715000" y="35053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5715000" y="5181480"/>
            <a:ext cx="2057400" cy="1233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1905120" y="502920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And here are some country codes you probably didn’t know: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343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za – South Africa (.sa is Saudi Arabia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es – Spai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de – Germany (“Deutschland,” get it?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ch – Switzerland (as in 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</a:rPr>
              <a:t>Confoederatio Helvetica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019920" y="114300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19920" y="2362320"/>
            <a:ext cx="1447560" cy="1139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6019920" y="3733920"/>
            <a:ext cx="152388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6019920" y="5029200"/>
            <a:ext cx="144756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o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NGO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o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NGO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o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NGO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o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NGO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Now you are ready to surf the World Wide Web.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6095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nd this time you won’t get lost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244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2847960"/>
            <a:ext cx="75042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nother PowerPoint presentation by Charles Kimball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o view more like it, visit the </a:t>
            </a:r>
            <a:r>
              <a:rPr b="0" lang="en-US" sz="2800" spc="-1" strike="noStrike" u="sng">
                <a:solidFill>
                  <a:srgbClr val="ccffcc"/>
                </a:solidFill>
                <a:uFillTx/>
                <a:latin typeface="Arial Narrow"/>
                <a:hlinkClick r:id="rId3"/>
              </a:rPr>
              <a:t>Technology For Educators HQ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at is a URL?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address of a webpage is called a URL (Uniform Resource Locator)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t consists of the following parts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</a:rPr>
              <a:t>http://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s means “Hypertext Transfer Protocol.”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hen a computer sees this, it knows you are giving it the location of a webpag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2"/>
              </a:rPr>
              <a:t>http://www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ww” means “World Wide Web.”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s isn’t as common as it used to be; many webpages don’t have it anymor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2"/>
              </a:rPr>
              <a:t>http://www.valenciacc.edu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part after the “www” is the domain name.  This is the most important part of the addr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yping in this will get you to the main page or homepage of the websit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3"/>
              </a:rPr>
              <a:t>www.valenciacc.edu/aboutus/locations</a:t>
            </a: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4"/>
              </a:rPr>
              <a:t>/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ost websites are divided into several imaginary groups called folders.  You can have folders inside other folder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hen going to a specific page on a website, the URL must have a slash mark ( / ) every time you enter a new folder, as with the page abov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2"/>
              </a:rPr>
              <a:t>http://faculty.valenciacc.edu/ckimball/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ometimes part of a website is in a completely different place, like on another server.  To show this a new name replaces the “www”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s name is called a subdomain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ow you know how the class website got its address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And Now About Suffix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ost domain names end in a suffix.  This is the part after the period, like .co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re are six suffixes commonly used on American websites:  .com, .org, .gov, .edu, .mil, and .ne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Other countries have different suffixes.  The British, for example, use .co.uk instead of .com, so Amazon.com becomes Amazon.co.uk in the United Kingdo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ome countries don’t use suffixes at all.  Here’s such a website from Uzbekistan:  </a:t>
            </a:r>
            <a:r>
              <a:rPr b="0" lang="en-US" sz="2800" spc="-1" strike="noStrike" u="sng">
                <a:solidFill>
                  <a:srgbClr val="ccffcc"/>
                </a:solidFill>
                <a:uFillTx/>
                <a:latin typeface="Arial Narrow"/>
                <a:hlinkClick r:id="rId5"/>
              </a:rPr>
              <a:t>http://www.uzdessert.uz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Here’s what American suffixes mean.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com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A commercial website.  Either the website’s owner, or the owner of the computer it is on, wishes to make money from the websit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org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A non-profit organization.  This includes charities, religious and political organization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gov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A government websit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11:48:00Z</dcterms:created>
  <dc:creator>Charles Kimball</dc:creator>
  <dc:description/>
  <dc:language>en-US</dc:language>
  <cp:lastModifiedBy>Charles Kimball</cp:lastModifiedBy>
  <dcterms:modified xsi:type="dcterms:W3CDTF">2006-04-11T01:03:17Z</dcterms:modified>
  <cp:revision>15</cp:revision>
  <dc:subject/>
  <dc:title>How Internet Addresses Work</dc:title>
</cp:coreProperties>
</file>